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FE3C-B282-412A-90D0-1CC245FC0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60DA-26A3-4D8B-9F96-5C5C0317B3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73E-3DD6-4219-9B4B-463FFB05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63E-90BA-4EE1-A160-45E0B2C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329-2766-4A5A-8358-92C50842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B13-66A4-4B29-A1FF-1723917C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7E5-916A-4881-827B-315E87F5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DA3-71DC-4CFB-8018-855C829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07D-E82A-4439-B3EA-C851A4CF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CDA-7305-4715-9F5C-DA0AD00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651-DEC3-40F7-86B7-1900DD48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B90-71D1-4871-B6BF-FC0BB3B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F92-E76F-44F6-896E-8A445AD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24F-B567-4A14-8584-92B053E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8982-67ED-4366-9CB6-1B0979C5F4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8:25:13Z</dcterms:modified>
  <cp:revision>32</cp:revision>
  <dc:subject/>
  <dc:title>What Goes Up Must Come Down</dc:title>
</cp:coreProperties>
</file>